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A3-81B1-45B4-B335-EE3D3516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A5F-6CC7-4577-A97A-5AD1CDCB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8B3-AECA-42A3-BCC5-6C376B50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A19-3273-4EEE-998A-759B1F0B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67A6-130F-4B66-B9BA-AFBEE7DD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E775-8891-456F-B32C-E504AC34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71CD-936B-45DC-A474-E0A8B96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8E2C-502A-4616-9527-5794A28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421-4DD5-4A1A-9147-C25E3130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FF70-9A8B-4BE6-9031-9EF4F85E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9CA-E935-484A-AC15-1E4105A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520-814F-4276-B293-13F1457A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20BC-0403-4E9E-92D2-8C013DA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9A75-D9A2-4254-8837-04D9CB30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8AAE-23CF-413F-B9AF-F1D0581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C65C-EA62-4B91-8FCD-4106A3AB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0EAB-94E3-4704-B640-C72A3D05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E6-E747-4677-A073-37233842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F2E-4AF6-4DB4-B8CE-44107681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A9F-4B40-4EDB-A588-E58EA542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854-6799-4A34-86A4-1024325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94B-F717-40F6-9D7E-B83594F7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F32-9F86-409F-BDB4-FD3934F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068-E2F4-4FB9-8202-B1D4184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8E12-76C9-4475-A011-3F581B5B6F2D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EFB-D1F8-4747-BBF5-27679194F554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619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6035" b="97"/>
          <a:stretch/>
        </p:blipFill>
        <p:spPr>
          <a:xfrm>
            <a:off x="1197000" y="1763640"/>
            <a:ext cx="4770360" cy="33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97000" y="1763640"/>
            <a:ext cx="4762440" cy="3240000"/>
            <a:chOff x="1197000" y="1763640"/>
            <a:chExt cx="4762440" cy="3240000"/>
          </a:xfrm>
        </p:grpSpPr>
        <p:grpSp>
          <p:nvGrpSpPr>
            <p:cNvPr id="99" name=""/>
            <p:cNvGrpSpPr/>
            <p:nvPr/>
          </p:nvGrpSpPr>
          <p:grpSpPr>
            <a:xfrm>
              <a:off x="1908360" y="2394000"/>
              <a:ext cx="3646440" cy="1620720"/>
              <a:chOff x="1908360" y="2394000"/>
              <a:chExt cx="3646440" cy="162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043000" y="3068640"/>
                <a:ext cx="71640" cy="7128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9080" y="2394000"/>
                <a:ext cx="3465720" cy="1620720"/>
                <a:chOff x="2089080" y="2394000"/>
                <a:chExt cx="3465720" cy="1620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089080" y="3114720"/>
                  <a:ext cx="3465720" cy="90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089080" y="2394000"/>
                  <a:ext cx="333072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908360" y="2708280"/>
                <a:ext cx="2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97000" y="1763640"/>
              <a:ext cx="4762440" cy="3240000"/>
            </a:xfrm>
            <a:custGeom>
              <a:avLst/>
              <a:gdLst/>
              <a:ahLst/>
              <a:rect l="l" t="t" r="r" b="b"/>
              <a:pathLst>
                <a:path w="3015" h="2071">
                  <a:moveTo>
                    <a:pt x="345" y="1116"/>
                  </a:moveTo>
                  <a:cubicBezTo>
                    <a:pt x="297" y="1148"/>
                    <a:pt x="297" y="1195"/>
                    <a:pt x="273" y="1244"/>
                  </a:cubicBezTo>
                  <a:cubicBezTo>
                    <a:pt x="262" y="1308"/>
                    <a:pt x="242" y="1397"/>
                    <a:pt x="281" y="1452"/>
                  </a:cubicBezTo>
                  <a:cubicBezTo>
                    <a:pt x="337" y="1531"/>
                    <a:pt x="526" y="1526"/>
                    <a:pt x="609" y="1532"/>
                  </a:cubicBezTo>
                  <a:cubicBezTo>
                    <a:pt x="678" y="1555"/>
                    <a:pt x="691" y="1535"/>
                    <a:pt x="737" y="1596"/>
                  </a:cubicBezTo>
                  <a:cubicBezTo>
                    <a:pt x="769" y="1723"/>
                    <a:pt x="688" y="1867"/>
                    <a:pt x="785" y="1964"/>
                  </a:cubicBezTo>
                  <a:cubicBezTo>
                    <a:pt x="801" y="2011"/>
                    <a:pt x="803" y="2001"/>
                    <a:pt x="841" y="2028"/>
                  </a:cubicBezTo>
                  <a:cubicBezTo>
                    <a:pt x="893" y="2065"/>
                    <a:pt x="838" y="2043"/>
                    <a:pt x="889" y="2060"/>
                  </a:cubicBezTo>
                  <a:cubicBezTo>
                    <a:pt x="998" y="2057"/>
                    <a:pt x="1111" y="2071"/>
                    <a:pt x="1217" y="2044"/>
                  </a:cubicBezTo>
                  <a:cubicBezTo>
                    <a:pt x="1273" y="2030"/>
                    <a:pt x="1323" y="1988"/>
                    <a:pt x="1353" y="1940"/>
                  </a:cubicBezTo>
                  <a:cubicBezTo>
                    <a:pt x="1359" y="1930"/>
                    <a:pt x="1361" y="1916"/>
                    <a:pt x="1369" y="1908"/>
                  </a:cubicBezTo>
                  <a:cubicBezTo>
                    <a:pt x="1405" y="1872"/>
                    <a:pt x="1436" y="1875"/>
                    <a:pt x="1481" y="1860"/>
                  </a:cubicBezTo>
                  <a:cubicBezTo>
                    <a:pt x="1540" y="1863"/>
                    <a:pt x="1599" y="1861"/>
                    <a:pt x="1657" y="1868"/>
                  </a:cubicBezTo>
                  <a:cubicBezTo>
                    <a:pt x="1692" y="1872"/>
                    <a:pt x="1687" y="1892"/>
                    <a:pt x="1713" y="1908"/>
                  </a:cubicBezTo>
                  <a:cubicBezTo>
                    <a:pt x="1733" y="1921"/>
                    <a:pt x="1760" y="1923"/>
                    <a:pt x="1777" y="1940"/>
                  </a:cubicBezTo>
                  <a:cubicBezTo>
                    <a:pt x="1785" y="1948"/>
                    <a:pt x="1792" y="1957"/>
                    <a:pt x="1801" y="1964"/>
                  </a:cubicBezTo>
                  <a:cubicBezTo>
                    <a:pt x="1839" y="1991"/>
                    <a:pt x="1884" y="1991"/>
                    <a:pt x="1929" y="1996"/>
                  </a:cubicBezTo>
                  <a:cubicBezTo>
                    <a:pt x="2036" y="2032"/>
                    <a:pt x="2155" y="2004"/>
                    <a:pt x="2265" y="1988"/>
                  </a:cubicBezTo>
                  <a:cubicBezTo>
                    <a:pt x="2298" y="1966"/>
                    <a:pt x="2337" y="1969"/>
                    <a:pt x="2369" y="1948"/>
                  </a:cubicBezTo>
                  <a:cubicBezTo>
                    <a:pt x="2404" y="1924"/>
                    <a:pt x="2430" y="1892"/>
                    <a:pt x="2465" y="1868"/>
                  </a:cubicBezTo>
                  <a:cubicBezTo>
                    <a:pt x="2476" y="1834"/>
                    <a:pt x="2488" y="1813"/>
                    <a:pt x="2513" y="1788"/>
                  </a:cubicBezTo>
                  <a:cubicBezTo>
                    <a:pt x="2527" y="1733"/>
                    <a:pt x="2516" y="1766"/>
                    <a:pt x="2553" y="1692"/>
                  </a:cubicBezTo>
                  <a:lnTo>
                    <a:pt x="2553" y="1692"/>
                  </a:lnTo>
                  <a:cubicBezTo>
                    <a:pt x="2556" y="1684"/>
                    <a:pt x="2555" y="1674"/>
                    <a:pt x="2561" y="1668"/>
                  </a:cubicBezTo>
                  <a:cubicBezTo>
                    <a:pt x="2597" y="1632"/>
                    <a:pt x="2649" y="1624"/>
                    <a:pt x="2689" y="1596"/>
                  </a:cubicBezTo>
                  <a:cubicBezTo>
                    <a:pt x="2714" y="1578"/>
                    <a:pt x="2745" y="1524"/>
                    <a:pt x="2745" y="1524"/>
                  </a:cubicBezTo>
                  <a:cubicBezTo>
                    <a:pt x="2759" y="1467"/>
                    <a:pt x="2740" y="1419"/>
                    <a:pt x="2753" y="1356"/>
                  </a:cubicBezTo>
                  <a:cubicBezTo>
                    <a:pt x="2761" y="1314"/>
                    <a:pt x="2821" y="1312"/>
                    <a:pt x="2849" y="1292"/>
                  </a:cubicBezTo>
                  <a:cubicBezTo>
                    <a:pt x="2858" y="1285"/>
                    <a:pt x="2864" y="1275"/>
                    <a:pt x="2873" y="1268"/>
                  </a:cubicBezTo>
                  <a:cubicBezTo>
                    <a:pt x="2880" y="1262"/>
                    <a:pt x="2889" y="1257"/>
                    <a:pt x="2897" y="1252"/>
                  </a:cubicBezTo>
                  <a:cubicBezTo>
                    <a:pt x="2910" y="1200"/>
                    <a:pt x="2916" y="1175"/>
                    <a:pt x="2945" y="1132"/>
                  </a:cubicBezTo>
                  <a:cubicBezTo>
                    <a:pt x="2952" y="1064"/>
                    <a:pt x="2964" y="999"/>
                    <a:pt x="2977" y="932"/>
                  </a:cubicBezTo>
                  <a:cubicBezTo>
                    <a:pt x="2974" y="832"/>
                    <a:pt x="3015" y="490"/>
                    <a:pt x="2833" y="444"/>
                  </a:cubicBezTo>
                  <a:cubicBezTo>
                    <a:pt x="2785" y="412"/>
                    <a:pt x="2728" y="410"/>
                    <a:pt x="2673" y="396"/>
                  </a:cubicBezTo>
                  <a:cubicBezTo>
                    <a:pt x="2591" y="342"/>
                    <a:pt x="2363" y="358"/>
                    <a:pt x="2313" y="356"/>
                  </a:cubicBezTo>
                  <a:cubicBezTo>
                    <a:pt x="2234" y="336"/>
                    <a:pt x="2268" y="351"/>
                    <a:pt x="2209" y="316"/>
                  </a:cubicBezTo>
                  <a:cubicBezTo>
                    <a:pt x="2193" y="268"/>
                    <a:pt x="2185" y="220"/>
                    <a:pt x="2169" y="172"/>
                  </a:cubicBezTo>
                  <a:cubicBezTo>
                    <a:pt x="2159" y="143"/>
                    <a:pt x="2097" y="116"/>
                    <a:pt x="2097" y="116"/>
                  </a:cubicBezTo>
                  <a:cubicBezTo>
                    <a:pt x="1990" y="122"/>
                    <a:pt x="1890" y="138"/>
                    <a:pt x="1785" y="148"/>
                  </a:cubicBezTo>
                  <a:cubicBezTo>
                    <a:pt x="1708" y="145"/>
                    <a:pt x="1630" y="145"/>
                    <a:pt x="1553" y="140"/>
                  </a:cubicBezTo>
                  <a:cubicBezTo>
                    <a:pt x="1521" y="138"/>
                    <a:pt x="1500" y="106"/>
                    <a:pt x="1473" y="92"/>
                  </a:cubicBezTo>
                  <a:cubicBezTo>
                    <a:pt x="1403" y="57"/>
                    <a:pt x="1333" y="44"/>
                    <a:pt x="1257" y="36"/>
                  </a:cubicBezTo>
                  <a:cubicBezTo>
                    <a:pt x="1227" y="29"/>
                    <a:pt x="1199" y="19"/>
                    <a:pt x="1169" y="12"/>
                  </a:cubicBezTo>
                  <a:cubicBezTo>
                    <a:pt x="1118" y="15"/>
                    <a:pt x="1059" y="0"/>
                    <a:pt x="1017" y="28"/>
                  </a:cubicBezTo>
                  <a:cubicBezTo>
                    <a:pt x="951" y="72"/>
                    <a:pt x="1061" y="37"/>
                    <a:pt x="969" y="60"/>
                  </a:cubicBezTo>
                  <a:cubicBezTo>
                    <a:pt x="891" y="112"/>
                    <a:pt x="1010" y="29"/>
                    <a:pt x="921" y="108"/>
                  </a:cubicBezTo>
                  <a:cubicBezTo>
                    <a:pt x="907" y="121"/>
                    <a:pt x="873" y="140"/>
                    <a:pt x="873" y="140"/>
                  </a:cubicBezTo>
                  <a:cubicBezTo>
                    <a:pt x="857" y="173"/>
                    <a:pt x="843" y="194"/>
                    <a:pt x="817" y="220"/>
                  </a:cubicBezTo>
                  <a:cubicBezTo>
                    <a:pt x="796" y="282"/>
                    <a:pt x="763" y="338"/>
                    <a:pt x="737" y="396"/>
                  </a:cubicBezTo>
                  <a:cubicBezTo>
                    <a:pt x="721" y="433"/>
                    <a:pt x="718" y="460"/>
                    <a:pt x="697" y="492"/>
                  </a:cubicBezTo>
                  <a:cubicBezTo>
                    <a:pt x="669" y="603"/>
                    <a:pt x="630" y="550"/>
                    <a:pt x="473" y="556"/>
                  </a:cubicBezTo>
                  <a:cubicBezTo>
                    <a:pt x="428" y="567"/>
                    <a:pt x="370" y="567"/>
                    <a:pt x="329" y="588"/>
                  </a:cubicBezTo>
                  <a:cubicBezTo>
                    <a:pt x="279" y="613"/>
                    <a:pt x="224" y="630"/>
                    <a:pt x="169" y="644"/>
                  </a:cubicBezTo>
                  <a:cubicBezTo>
                    <a:pt x="142" y="662"/>
                    <a:pt x="98" y="679"/>
                    <a:pt x="73" y="700"/>
                  </a:cubicBezTo>
                  <a:cubicBezTo>
                    <a:pt x="11" y="751"/>
                    <a:pt x="85" y="700"/>
                    <a:pt x="25" y="740"/>
                  </a:cubicBezTo>
                  <a:cubicBezTo>
                    <a:pt x="0" y="815"/>
                    <a:pt x="12" y="769"/>
                    <a:pt x="25" y="932"/>
                  </a:cubicBezTo>
                  <a:cubicBezTo>
                    <a:pt x="36" y="1068"/>
                    <a:pt x="196" y="1055"/>
                    <a:pt x="289" y="1060"/>
                  </a:cubicBezTo>
                  <a:cubicBezTo>
                    <a:pt x="347" y="1079"/>
                    <a:pt x="333" y="1060"/>
                    <a:pt x="345" y="1108"/>
                  </a:cubicBezTo>
                  <a:cubicBezTo>
                    <a:pt x="342" y="1116"/>
                    <a:pt x="343" y="1126"/>
                    <a:pt x="337" y="1132"/>
                  </a:cubicBezTo>
                  <a:cubicBezTo>
                    <a:pt x="331" y="1138"/>
                    <a:pt x="309" y="1148"/>
                    <a:pt x="313" y="1140"/>
                  </a:cubicBezTo>
                  <a:cubicBezTo>
                    <a:pt x="319" y="1128"/>
                    <a:pt x="334" y="1124"/>
                    <a:pt x="345" y="111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97000" y="2394000"/>
            <a:ext cx="3375000" cy="1608120"/>
            <a:chOff x="2097000" y="2394000"/>
            <a:chExt cx="3375000" cy="1608120"/>
          </a:xfrm>
        </p:grpSpPr>
        <p:sp>
          <p:nvSpPr>
            <p:cNvPr id="107" name=""/>
            <p:cNvSpPr/>
            <p:nvPr/>
          </p:nvSpPr>
          <p:spPr>
            <a:xfrm flipV="1">
              <a:off x="2097000" y="2394000"/>
              <a:ext cx="3330360" cy="72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7000" y="3112920"/>
              <a:ext cx="33750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11280" y="5364000"/>
            <a:ext cx="68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ółproste o wspólnym początku w punkcie A podzieliły nam płaszczyznę na dwie części. Punkty należące do jednej części wraz z punktami należącymi do półprostych tworzą figurę zwan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3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664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57360" y="2393640"/>
            <a:ext cx="4409640" cy="2282760"/>
            <a:chOff x="2457360" y="2393640"/>
            <a:chExt cx="4409640" cy="2282760"/>
          </a:xfrm>
        </p:grpSpPr>
        <p:sp>
          <p:nvSpPr>
            <p:cNvPr id="115" name=""/>
            <p:cNvSpPr/>
            <p:nvPr/>
          </p:nvSpPr>
          <p:spPr>
            <a:xfrm flipV="1">
              <a:off x="2457360" y="2393640"/>
              <a:ext cx="4351680" cy="102276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7360" y="3414960"/>
              <a:ext cx="4409640" cy="126144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46280" y="2394000"/>
            <a:ext cx="67608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22720" y="4103640"/>
            <a:ext cx="4935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1898640"/>
            <a:ext cx="67464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1640" y="14032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5049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360" y="1673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rzchołek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042920"/>
            <a:ext cx="43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za pomocą łu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6640" y="23940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) za pomocą łuków i trzech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6640" y="473400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) za pomocą łuku i litery greckiego alfabe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1640" y="1476360"/>
            <a:ext cx="2341800" cy="738360"/>
            <a:chOff x="1601640" y="1476360"/>
            <a:chExt cx="2341800" cy="738360"/>
          </a:xfrm>
        </p:grpSpPr>
        <p:grpSp>
          <p:nvGrpSpPr>
            <p:cNvPr id="129" name=""/>
            <p:cNvGrpSpPr/>
            <p:nvPr/>
          </p:nvGrpSpPr>
          <p:grpSpPr>
            <a:xfrm>
              <a:off x="1873080" y="1493640"/>
              <a:ext cx="2070360" cy="721080"/>
              <a:chOff x="1873080" y="1493640"/>
              <a:chExt cx="2070360" cy="72108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1873080" y="1493640"/>
                <a:ext cx="1845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73080" y="1854360"/>
                <a:ext cx="2070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601640" y="171936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3196800">
              <a:off x="2304720" y="1620360"/>
              <a:ext cx="5392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92680" y="1440000"/>
            <a:ext cx="1365480" cy="720360"/>
            <a:chOff x="5692680" y="1440000"/>
            <a:chExt cx="1365480" cy="720360"/>
          </a:xfrm>
        </p:grpSpPr>
        <p:sp>
          <p:nvSpPr>
            <p:cNvPr id="135" name=""/>
            <p:cNvSpPr/>
            <p:nvPr/>
          </p:nvSpPr>
          <p:spPr>
            <a:xfrm flipV="1">
              <a:off x="5692680" y="1440000"/>
              <a:ext cx="13291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680" y="1784880"/>
              <a:ext cx="136548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381640" y="153828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1018400">
            <a:off x="5246640" y="1584360"/>
            <a:ext cx="69552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28893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1640" y="3071880"/>
            <a:ext cx="1906560" cy="712800"/>
            <a:chOff x="1871640" y="3071880"/>
            <a:chExt cx="1906560" cy="712800"/>
          </a:xfrm>
        </p:grpSpPr>
        <p:sp>
          <p:nvSpPr>
            <p:cNvPr id="141" name=""/>
            <p:cNvSpPr/>
            <p:nvPr/>
          </p:nvSpPr>
          <p:spPr>
            <a:xfrm flipV="1">
              <a:off x="1871640" y="3071880"/>
              <a:ext cx="156024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1640" y="3504600"/>
              <a:ext cx="19065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663560" y="3429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196800">
            <a:off x="2068920" y="3320280"/>
            <a:ext cx="30384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363204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602320" y="2959200"/>
            <a:ext cx="1625400" cy="825480"/>
            <a:chOff x="5602320" y="2959200"/>
            <a:chExt cx="1625400" cy="825480"/>
          </a:xfrm>
        </p:grpSpPr>
        <p:sp>
          <p:nvSpPr>
            <p:cNvPr id="147" name=""/>
            <p:cNvSpPr/>
            <p:nvPr/>
          </p:nvSpPr>
          <p:spPr>
            <a:xfrm flipV="1">
              <a:off x="5602320" y="2959200"/>
              <a:ext cx="16254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2320" y="3303360"/>
              <a:ext cx="114408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80200" y="316404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1018400">
            <a:off x="5158080" y="3091320"/>
            <a:ext cx="734400" cy="38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02360" y="279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58080" y="351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30840" y="5124960"/>
            <a:ext cx="1313640" cy="1119240"/>
            <a:chOff x="5730840" y="5124960"/>
            <a:chExt cx="1313640" cy="1119240"/>
          </a:xfrm>
        </p:grpSpPr>
        <p:grpSp>
          <p:nvGrpSpPr>
            <p:cNvPr id="154" name=""/>
            <p:cNvGrpSpPr/>
            <p:nvPr/>
          </p:nvGrpSpPr>
          <p:grpSpPr>
            <a:xfrm>
              <a:off x="5730840" y="5124960"/>
              <a:ext cx="1313640" cy="1119240"/>
              <a:chOff x="5730840" y="5124960"/>
              <a:chExt cx="1313640" cy="11192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730840" y="5124960"/>
                <a:ext cx="1313640" cy="820440"/>
                <a:chOff x="5730840" y="5124960"/>
                <a:chExt cx="1313640" cy="82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>
                  <a:off x="5730840" y="5917680"/>
                  <a:ext cx="1313640" cy="2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5805720" y="5124960"/>
                  <a:ext cx="1238760" cy="82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15266400">
                <a:off x="6305040" y="5710680"/>
                <a:ext cx="61164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62" y="6"/>
                    </a:moveTo>
                    <a:arcTo wR="10800" hR="10800" stAng="-5284849" swAng="52848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62" y="6"/>
                    </a:moveTo>
                    <a:arcTo wR="10800" hR="10800" stAng="-5284849" swAng="52848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417000" y="5589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2040" y="5094360"/>
            <a:ext cx="1884600" cy="882000"/>
            <a:chOff x="1652040" y="5094360"/>
            <a:chExt cx="1884600" cy="882000"/>
          </a:xfrm>
        </p:grpSpPr>
        <p:grpSp>
          <p:nvGrpSpPr>
            <p:cNvPr id="161" name=""/>
            <p:cNvGrpSpPr/>
            <p:nvPr/>
          </p:nvGrpSpPr>
          <p:grpSpPr>
            <a:xfrm>
              <a:off x="1932480" y="5094360"/>
              <a:ext cx="1604160" cy="771480"/>
              <a:chOff x="1932480" y="5094360"/>
              <a:chExt cx="1604160" cy="77148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1932480" y="5094360"/>
                <a:ext cx="1403280" cy="63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32480" y="5732280"/>
                <a:ext cx="16041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 rot="9844200">
              <a:off x="1691640" y="5527440"/>
              <a:ext cx="5922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0" y="13919"/>
                  </a:moveTo>
                  <a:arcTo wR="10800" hR="10800" stAng="1007062" swAng="18699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0" y="13919"/>
                  </a:moveTo>
                  <a:arcTo wR="10800" hR="10800" stAng="1007062" swAng="186999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92360" y="55972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6237360" y="4194000"/>
          <a:ext cx="22392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7360" y="4194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021280" y="3924360"/>
            <a:ext cx="3735360" cy="520200"/>
            <a:chOff x="5021280" y="3924360"/>
            <a:chExt cx="3735360" cy="520200"/>
          </a:xfrm>
        </p:grpSpPr>
        <p:sp>
          <p:nvSpPr>
            <p:cNvPr id="169" name=""/>
            <p:cNvSpPr/>
            <p:nvPr/>
          </p:nvSpPr>
          <p:spPr>
            <a:xfrm>
              <a:off x="5021280" y="3924360"/>
              <a:ext cx="37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7182000" y="419400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82000" y="419400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1557360" y="6129360"/>
          <a:ext cx="223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736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692360" y="603900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zytamy: kąt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37000" y="6129360"/>
          <a:ext cx="223920" cy="2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700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1557360" y="3924360"/>
            <a:ext cx="6345360" cy="2421720"/>
            <a:chOff x="1557360" y="3924360"/>
            <a:chExt cx="6345360" cy="2421720"/>
          </a:xfrm>
        </p:grpSpPr>
        <p:sp>
          <p:nvSpPr>
            <p:cNvPr id="178" name=""/>
            <p:cNvSpPr/>
            <p:nvPr/>
          </p:nvSpPr>
          <p:spPr>
            <a:xfrm>
              <a:off x="1557360" y="3924360"/>
              <a:ext cx="346392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Słowo „kąt” zastępujemy symbolem „    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3716280" y="4194000"/>
            <a:ext cx="223920" cy="2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1628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257720" y="4419720"/>
            <a:ext cx="223920" cy="22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57720" y="4419720"/>
                      <a:ext cx="22392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2771640" y="4194000"/>
            <a:ext cx="223920" cy="22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164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5472000" y="603900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l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6640" y="113364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 pro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żemy narysować za pomocą ekie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1628640"/>
            <a:ext cx="1440000" cy="1349640"/>
            <a:chOff x="2411280" y="1628640"/>
            <a:chExt cx="1440000" cy="1349640"/>
          </a:xfrm>
        </p:grpSpPr>
        <p:sp>
          <p:nvSpPr>
            <p:cNvPr id="190" name=""/>
            <p:cNvSpPr/>
            <p:nvPr/>
          </p:nvSpPr>
          <p:spPr>
            <a:xfrm flipH="1" flipV="1" rot="10800000">
              <a:off x="2640960" y="2142360"/>
              <a:ext cx="691920" cy="641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 rot="10800000">
              <a:off x="2411280" y="1628280"/>
              <a:ext cx="1440000" cy="134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50920" y="2979720"/>
            <a:ext cx="32418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539720"/>
            <a:ext cx="0" cy="171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41640" y="2708280"/>
            <a:ext cx="539280" cy="542520"/>
            <a:chOff x="2141640" y="2708280"/>
            <a:chExt cx="539280" cy="542520"/>
          </a:xfrm>
        </p:grpSpPr>
        <p:sp>
          <p:nvSpPr>
            <p:cNvPr id="195" name=""/>
            <p:cNvSpPr/>
            <p:nvPr/>
          </p:nvSpPr>
          <p:spPr>
            <a:xfrm>
              <a:off x="2141640" y="270828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2000" y="28432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67000" y="3244680"/>
            <a:ext cx="5400360" cy="417240"/>
            <a:chOff x="1467000" y="3244680"/>
            <a:chExt cx="5400360" cy="417240"/>
          </a:xfrm>
        </p:grpSpPr>
        <p:sp>
          <p:nvSpPr>
            <p:cNvPr id="198" name=""/>
            <p:cNvSpPr/>
            <p:nvPr/>
          </p:nvSpPr>
          <p:spPr>
            <a:xfrm>
              <a:off x="1467000" y="3244680"/>
              <a:ext cx="54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ąt prosty na rysunku przyjęto oznacza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95120" y="3244680"/>
              <a:ext cx="416160" cy="417240"/>
              <a:chOff x="5595120" y="3244680"/>
              <a:chExt cx="416160" cy="417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595120" y="3367080"/>
                <a:ext cx="293040" cy="294840"/>
                <a:chOff x="5595120" y="3367080"/>
                <a:chExt cx="293040" cy="294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95120" y="3367080"/>
                  <a:ext cx="293040" cy="29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90960" y="3440520"/>
                  <a:ext cx="19800" cy="1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741640" y="3244680"/>
                <a:ext cx="0" cy="2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41640" y="3513960"/>
                <a:ext cx="26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1467000" y="3833640"/>
            <a:ext cx="63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ąty proste możemy narysować również za pomocą dwóch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ych prostopad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7828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7000" y="5589720"/>
            <a:ext cx="180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1640" y="473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7000" y="603900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67000" y="5319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1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558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141640" y="5319720"/>
            <a:ext cx="539280" cy="542520"/>
            <a:chOff x="2141640" y="5319720"/>
            <a:chExt cx="539280" cy="542520"/>
          </a:xfrm>
        </p:grpSpPr>
        <p:sp>
          <p:nvSpPr>
            <p:cNvPr id="214" name=""/>
            <p:cNvSpPr/>
            <p:nvPr/>
          </p:nvSpPr>
          <p:spPr>
            <a:xfrm>
              <a:off x="2141640" y="531972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2000" y="5454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34080" y="5311440"/>
            <a:ext cx="569160" cy="573120"/>
            <a:chOff x="2134080" y="5311440"/>
            <a:chExt cx="569160" cy="573120"/>
          </a:xfrm>
        </p:grpSpPr>
        <p:sp>
          <p:nvSpPr>
            <p:cNvPr id="217" name=""/>
            <p:cNvSpPr/>
            <p:nvPr/>
          </p:nvSpPr>
          <p:spPr>
            <a:xfrm rot="11001600">
              <a:off x="2149200" y="5326560"/>
              <a:ext cx="5385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001600">
              <a:off x="2285640" y="5691240"/>
              <a:ext cx="3600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492360" y="482436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wie proste prostopadłe utworzyły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ąty pros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62720" y="5273640"/>
            <a:ext cx="855720" cy="1067400"/>
            <a:chOff x="5562720" y="5273640"/>
            <a:chExt cx="855720" cy="1067400"/>
          </a:xfrm>
        </p:grpSpPr>
        <p:graphicFrame>
          <p:nvGraphicFramePr>
            <p:cNvPr id="221" name=""/>
            <p:cNvGraphicFramePr/>
            <p:nvPr/>
          </p:nvGraphicFramePr>
          <p:xfrm>
            <a:off x="5562720" y="5362560"/>
            <a:ext cx="22392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536256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5562720" y="5587920"/>
            <a:ext cx="22392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5879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5562720" y="5813280"/>
            <a:ext cx="223920" cy="22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81328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562720" y="603864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603864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743800" y="5273640"/>
              <a:ext cx="67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B BSC CSD D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798280" y="2991240"/>
            <a:ext cx="2678400" cy="3036600"/>
            <a:chOff x="2798280" y="2991240"/>
            <a:chExt cx="2678400" cy="3036600"/>
          </a:xfrm>
        </p:grpSpPr>
        <p:sp>
          <p:nvSpPr>
            <p:cNvPr id="231" name=""/>
            <p:cNvSpPr/>
            <p:nvPr/>
          </p:nvSpPr>
          <p:spPr>
            <a:xfrm flipH="1" rot="9328800">
              <a:off x="3239640" y="3249720"/>
              <a:ext cx="179496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9328800">
              <a:off x="3482640" y="345204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32880" y="1923840"/>
            <a:ext cx="2926800" cy="3093480"/>
            <a:chOff x="1532880" y="1923840"/>
            <a:chExt cx="2926800" cy="3093480"/>
          </a:xfrm>
        </p:grpSpPr>
        <p:sp>
          <p:nvSpPr>
            <p:cNvPr id="234" name=""/>
            <p:cNvSpPr/>
            <p:nvPr/>
          </p:nvSpPr>
          <p:spPr>
            <a:xfrm flipH="1" rot="12937800">
              <a:off x="2098440" y="2210760"/>
              <a:ext cx="179532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2937800">
              <a:off x="2719080" y="2457000"/>
              <a:ext cx="100476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57880" y="934200"/>
            <a:ext cx="2928600" cy="3093120"/>
            <a:chOff x="4457880" y="934200"/>
            <a:chExt cx="2928600" cy="3093120"/>
          </a:xfrm>
        </p:grpSpPr>
        <p:sp>
          <p:nvSpPr>
            <p:cNvPr id="237" name=""/>
            <p:cNvSpPr/>
            <p:nvPr/>
          </p:nvSpPr>
          <p:spPr>
            <a:xfrm flipH="1" rot="2144400">
              <a:off x="5024160" y="1220760"/>
              <a:ext cx="179496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2144400">
              <a:off x="5193360" y="207396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15920" y="23328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Kąty ostre i rozw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64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mniejsze od kąta prostego. Kąty mniej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ostr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4200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większe od kąta prostego. Kąty więk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rozwart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7000" y="4689360"/>
            <a:ext cx="853560" cy="368280"/>
            <a:chOff x="1467000" y="4689360"/>
            <a:chExt cx="853560" cy="368280"/>
          </a:xfrm>
        </p:grpSpPr>
        <p:graphicFrame>
          <p:nvGraphicFramePr>
            <p:cNvPr id="243" name=""/>
            <p:cNvGraphicFramePr/>
            <p:nvPr/>
          </p:nvGraphicFramePr>
          <p:xfrm>
            <a:off x="1467000" y="4778280"/>
            <a:ext cx="22356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7000" y="47782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1601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95640" y="4689360"/>
            <a:ext cx="853920" cy="368280"/>
            <a:chOff x="2195640" y="4689360"/>
            <a:chExt cx="853920" cy="368280"/>
          </a:xfrm>
        </p:grpSpPr>
        <p:graphicFrame>
          <p:nvGraphicFramePr>
            <p:cNvPr id="247" name=""/>
            <p:cNvGraphicFramePr/>
            <p:nvPr/>
          </p:nvGraphicFramePr>
          <p:xfrm>
            <a:off x="2195640" y="478008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47800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2330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64000" y="4689360"/>
            <a:ext cx="855360" cy="368280"/>
            <a:chOff x="5364000" y="4689360"/>
            <a:chExt cx="855360" cy="368280"/>
          </a:xfrm>
        </p:grpSpPr>
        <p:graphicFrame>
          <p:nvGraphicFramePr>
            <p:cNvPr id="251" name=""/>
            <p:cNvGraphicFramePr/>
            <p:nvPr/>
          </p:nvGraphicFramePr>
          <p:xfrm>
            <a:off x="5364000" y="4780080"/>
            <a:ext cx="223560" cy="2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4780080"/>
                      <a:ext cx="22356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498640" y="4689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92720" y="4689360"/>
            <a:ext cx="990720" cy="368280"/>
            <a:chOff x="6192720" y="4689360"/>
            <a:chExt cx="990720" cy="368280"/>
          </a:xfrm>
        </p:grpSpPr>
        <p:graphicFrame>
          <p:nvGraphicFramePr>
            <p:cNvPr id="255" name=""/>
            <p:cNvGraphicFramePr/>
            <p:nvPr/>
          </p:nvGraphicFramePr>
          <p:xfrm>
            <a:off x="6192720" y="477972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92720" y="47797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6327720" y="46893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525760" y="1688760"/>
            <a:ext cx="4724280" cy="2819880"/>
            <a:chOff x="2525760" y="1688760"/>
            <a:chExt cx="4724280" cy="2819880"/>
          </a:xfrm>
        </p:grpSpPr>
        <p:sp>
          <p:nvSpPr>
            <p:cNvPr id="259" name=""/>
            <p:cNvSpPr/>
            <p:nvPr/>
          </p:nvSpPr>
          <p:spPr>
            <a:xfrm>
              <a:off x="2668680" y="1689120"/>
              <a:ext cx="39272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25760" y="1688760"/>
              <a:ext cx="4724280" cy="21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30520"/>
              <a:ext cx="6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22720" y="3473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2720" y="225756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7720" y="297828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2360" y="1898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1720" y="-69120"/>
            <a:ext cx="2675160" cy="3035520"/>
            <a:chOff x="3411720" y="-69120"/>
            <a:chExt cx="2675160" cy="3035520"/>
          </a:xfrm>
        </p:grpSpPr>
        <p:sp>
          <p:nvSpPr>
            <p:cNvPr id="267" name=""/>
            <p:cNvSpPr/>
            <p:nvPr/>
          </p:nvSpPr>
          <p:spPr>
            <a:xfrm flipH="1" rot="20135400">
              <a:off x="3851640" y="189000"/>
              <a:ext cx="179460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20135400">
              <a:off x="4396680" y="1085760"/>
              <a:ext cx="100440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7:07Z</dcterms:modified>
  <cp:revision>21</cp:revision>
  <dc:subject/>
  <dc:title>Slajd 1</dc:title>
</cp:coreProperties>
</file>